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1.jpeg" ContentType="image/jpeg"/>
  <Override PartName="/ppt/media/image8.jpeg" ContentType="image/jpeg"/>
  <Override PartName="/ppt/media/image27.jpeg" ContentType="image/jpeg"/>
  <Override PartName="/ppt/media/image5.wmf" ContentType="image/x-wmf"/>
  <Override PartName="/ppt/media/image30.png" ContentType="image/png"/>
  <Override PartName="/ppt/media/image28.wmf" ContentType="image/x-wmf"/>
  <Override PartName="/ppt/media/image18.png" ContentType="image/png"/>
  <Override PartName="/ppt/media/image20.png" ContentType="image/png"/>
  <Override PartName="/ppt/media/image7.jpeg" ContentType="image/jpeg"/>
  <Override PartName="/ppt/media/image31.wmf" ContentType="image/x-wmf"/>
  <Override PartName="/ppt/media/image6.wmf" ContentType="image/x-wmf"/>
  <Override PartName="/ppt/media/image9.jpeg" ContentType="image/jpeg"/>
  <Override PartName="/ppt/media/image12.jpeg" ContentType="image/jpeg"/>
  <Override PartName="/ppt/media/image13.png" ContentType="image/png"/>
  <Override PartName="/ppt/media/image32.wmf" ContentType="image/x-wmf"/>
  <Override PartName="/ppt/media/image29.jpeg" ContentType="image/jpeg"/>
  <Override PartName="/ppt/media/image3.wmf" ContentType="image/x-wmf"/>
  <Override PartName="/ppt/media/image2.png" ContentType="image/png"/>
  <Override PartName="/ppt/media/image25.png" ContentType="image/png"/>
  <Override PartName="/ppt/media/image4.wmf" ContentType="image/x-wmf"/>
  <Override PartName="/ppt/media/image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3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A47D-F67A-4AD6-8165-6FA2438CE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6F3F-5713-4DDD-AF40-E32E93D1A3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231E-303A-49BC-BD37-AD6B7791AD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BEE5-101F-4333-89A2-52CC1CF73F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842E-A707-434B-8B71-61AA056766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5410-3D1F-43B9-9652-0FD75D3321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273-96B6-4895-AD88-B9596222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9471-81AB-4289-8A65-69B97F89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DE59D-CE58-4C3D-B104-D585D505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0335B-48C8-4910-AB0D-F4CFEF40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9512D-D5F1-431E-8045-99ABF662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A84C6-698C-4807-8E04-9E612B5A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D28F3-6243-4798-8DB5-7CBBC9CC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1BF1C-85A2-42F3-863E-1011EBC3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10F7C-E887-4E71-9ED5-0432D255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3DCB4-44B6-4D32-8584-F0510656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D61A3-7B8A-485D-B4EC-3E4BF40A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D8116-21DB-4CE8-8C09-26E94614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784A-F8DE-48C7-A02A-DA245D1F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44A2D-80AD-4827-932F-6BAAC046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8C739-14F4-44F8-8266-929DCDD6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50DD0-0E8E-4EDB-8988-A760C0E1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14AB3-3D22-4009-8E43-136967B1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FA564-4C23-4281-BF90-1B5EFA35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5C4FB-24F2-402C-85C0-51DA9ACD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726F1-B2F6-4E60-A4ED-BA2619DF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6E805-B66F-4E15-B081-FF763E2F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E4790-246E-4A41-99B7-67697E4C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14568-7CCF-43C5-82F3-DD7F412A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7050-B085-41EA-8EF6-FAAA58B8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C3095-B4B9-4E6A-80AB-6AC827FE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FEAA1-42B9-4716-9964-0AD67D1A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6FDC2-946F-47DF-A451-8E78B0C5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9DBC5-A157-47C6-A092-001425BC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5F018-1DF5-4C14-B342-CC3FF15A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8F6B0-B226-41C8-8C3D-FFD766CD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84BB6-8956-4C13-9813-548397C0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AB42D-BF6F-40B6-B850-F71C4157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6972F-DD68-41A0-9C3F-2C00CA47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69AF9-F9A9-474E-B211-FACDAB54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FE55-1F23-4399-9CAE-9E57A1E8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6442B-6840-45AE-8D73-56A1EBA1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41B1D-602F-4708-9C54-D6DDD6E4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F5D57-9A61-4687-A56D-A2F8D47C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2581F-EBBD-439F-8513-4B00677E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D5F5E-848C-4CBB-BEAE-9CCFCCC8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12D06-D20A-4CE5-846A-18F52891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E9D48-5B7D-4691-88CA-01C8BB2C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B9296-D256-4250-A2AB-AA0849E7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CF51B-2A09-466C-AEB2-0DF480B1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8F019-A048-4BDA-996A-760CE7B3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79EE-81B3-49BF-B6F7-87635442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66D33-089D-4923-BCB1-49024DCF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6E188-A37C-4D4D-A647-469CF22A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381A5-BBDD-4236-ACBA-F254A851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F5126-9E84-4084-96AD-142FB462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AD577-8E86-4CBB-B4FF-EF0A6B2F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A900-D4DF-45B1-B72A-F080A63C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6FD2-C779-4B3F-8DDC-C47D014B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EE4E-8AC9-476B-8663-A12B5E66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F752-C0A5-4466-B6AC-BDFDF3ED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7079-E40D-45D2-BF80-C3F7C05F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ED02-07E9-4305-986F-F3617B00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B54F-87F5-4869-8B17-FD2E6E27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CC01-E823-4423-ADB0-50F7A5E9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4E20-4246-4CAD-9F5E-16E13399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A84A-8DB9-4740-ABF0-5D2A5DBF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3D27-0596-4AE5-B200-4A6E4E16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D104C-90D6-42C4-8AA8-11D9B97F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A718B-5D96-4B68-808E-1F2F2161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7FB8A-6C33-4BDC-A927-EF382A2C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6540A-DA39-4098-89C2-0DBAE6E0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AD136-6FD6-4922-BE70-BD943A53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368-32FA-43F9-98A3-3FE1D1A1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4F45C-82EF-4630-BF49-B2E13FE7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D2BCB-1080-47E0-AAFB-C41BBC58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E5E9D-8DAB-4C6D-96B8-272C6A09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BC639-B074-4A6A-938B-7A5C1EBC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7BD41-CD20-404A-A0C8-8BC6BE36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B36C0-DC3A-4638-BAC0-71B2C321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30842-99FC-470E-8824-DD2F9DBE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16564-0B6F-424F-802D-85FDD91F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24AD2-406B-4AC9-BE4E-634B15D7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61FE7-3760-41C9-889D-1525D041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4A2C-EAC3-4BA2-8CE0-A40D3B66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AB133-C08F-4007-B439-9D1F1881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E8B2A-0888-42B5-855A-2A114FBF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0A387-0971-4577-AD3D-B0C7E43F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B71FC-66B8-4CBC-B456-B98B64BF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C65A0-C6AB-4030-A321-7D673C4A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ABF7A-44B6-4146-A7E4-B6F9CD7F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787BB-FDBB-46D0-B05F-B05E4171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6C035-0403-4C29-8AB3-3870EED9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84B05-BF15-4B73-BB04-E599A77D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EF693-3370-423E-AD71-B21864D4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7A6D-2581-49FA-8212-F77AD9F4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766AD-F3DF-44D6-B26B-8DC56420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B6A53-0D20-4000-94C0-550CB55C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AB4B0-859E-412D-B65C-2463F207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9AAD8-F869-48D9-9EEF-A31EE4E3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9C345-1324-432C-8DE3-3756A38B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1D7B5-C665-4057-B8B2-F0736E3C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5EE39-BA2A-4F21-9E87-66576777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9ACCB-070A-46CD-AE39-171E48B5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6FCC1-5C40-4FE5-84B6-1C664C67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B1A59-1136-47A7-AABA-0B8E49DB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9316-6B43-4781-8A47-66A21D4A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18902-8389-4E76-A422-ED211250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6F281-2BC3-4ADF-8468-E4115DC1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267A7-69E0-42B7-BAB0-D34C1ADF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11B26-E873-4C2B-8F20-FF639025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21E30-858C-415D-8346-ABA2A358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BD761-D7B4-46F5-8F06-535DF507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09DCC-7451-4F8E-80DE-F2C8F195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94475-9ABF-470F-B2BB-284F3E7E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19DCE-0F53-4210-B817-D06C9E60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568B6-B34C-426E-94A3-3CFBFAD8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F32E-AF10-4C8B-9E88-67D9A435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E5194-0986-4093-86F9-D7B07D9F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D955B-E421-4F40-9D9A-8258EBA2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4F043-E1F5-49F9-BA3A-C67A5993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BD8C3-C7B8-4B3C-81E2-8103828B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24E2C-584F-44D5-88E9-D7CF7365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2B52A-AE2C-4760-B3A1-636DCE5A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44FBD-8D83-4314-B008-D4B9B8E1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356EA-CB58-4C4A-8565-6FEC16FF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79186-5576-4420-80FF-3AB14CDE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0D15C-F59D-48A1-90FA-EBC74BBB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691-2B0B-4027-A11E-0EEB0A37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91D56-61FC-45B0-907E-A138766D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D33BC-17F0-48A8-A821-5655466D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E48E0-FFAC-4318-A4B5-0BA4463B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36D61-67E7-4693-AD49-23B2F204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1A955-7A47-4AC7-AF50-F74C7867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71511-E1D6-4FFA-BAE4-A26C27C4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DE31A-8730-4CF8-B7BA-AAFFED87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735A0-E54B-464C-9F58-6EF5A158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423B1-A69B-4392-A089-F4F2ED4A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F66E0-D944-45E8-9862-FFD39BFF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E285-321E-4FE4-9555-65167CFD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A4D04-48C9-42CD-8003-84DE0F63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99105-4746-4F72-A08D-4759A35B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2F8B6-D282-4898-8889-6B62C8A0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84864-EC71-45F6-A350-CEA82AA3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768E0-60BC-40E4-BCA2-2361053E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26B30-BEAA-4920-AF0E-AF2D9005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6AE66-199B-4AE5-A208-C0C60CE1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E1290-4533-40FA-B0A2-7D3E5BD0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CBB7E-DA9F-4528-94F6-B410DBC8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0D1BF-7581-4776-9D0B-15133638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A1B8-34BE-4C72-8E53-52C5CE4210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04A4-3C50-43F1-8828-81478B58F1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7A69-3EF3-4A9E-9AD7-A3CFA3D995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4C3D-2A1D-46EA-8064-583952FD39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7C88-8BD6-4B1D-8345-EDB9B7EC3A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A7AA-FF09-43F0-8611-A5F69E51CE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9031-7BC5-4AB8-9497-01D9D99A59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4804-B7D0-4617-BBC5-3E47EDF378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613A-258D-4768-A7F6-BD46BCA818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7944-992B-4C59-A68A-DD8E0B7F52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2C7D-C958-4AB6-A706-052CC95E6B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0812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63800" indent="-3092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302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594800" indent="-2646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286C-C286-474C-9276-B3A4B67370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 rot="20700000">
            <a:off x="-398160" y="3122280"/>
            <a:ext cx="778032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Rockwell"/>
              </a:rPr>
              <a:t>Safe and Smart with Tech</a:t>
            </a:r>
            <a:endParaRPr b="0" lang="en-US" sz="49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6480" y="450864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February 27, 2013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Coquitlam River Elementary School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57" name="Picture 6" descr="C:\Users\dsands\AppData\Local\Microsoft\Windows\Temporary Internet Files\Content.IE5\GDZGXQPE\MC900232047[1].wmf"/>
          <p:cNvPicPr/>
          <p:nvPr/>
        </p:nvPicPr>
        <p:blipFill>
          <a:blip r:embed="rId1"/>
          <a:stretch/>
        </p:blipFill>
        <p:spPr>
          <a:xfrm>
            <a:off x="1260360" y="4443480"/>
            <a:ext cx="3102120" cy="24033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C:\Users\dsands\AppData\Local\Microsoft\Windows\Temporary Internet Files\Content.IE5\X6DQBF1B\MC900446302[1].wmf"/>
          <p:cNvPicPr/>
          <p:nvPr/>
        </p:nvPicPr>
        <p:blipFill>
          <a:blip r:embed="rId2"/>
          <a:stretch/>
        </p:blipFill>
        <p:spPr>
          <a:xfrm>
            <a:off x="531720" y="171360"/>
            <a:ext cx="2960640" cy="29592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9" descr="C:\Users\dsands\AppData\Local\Microsoft\Windows\Temporary Internet Files\Content.IE5\GDZGXQPE\MC900338110[1].wmf"/>
          <p:cNvPicPr/>
          <p:nvPr/>
        </p:nvPicPr>
        <p:blipFill>
          <a:blip r:embed="rId3"/>
          <a:stretch/>
        </p:blipFill>
        <p:spPr>
          <a:xfrm>
            <a:off x="6443640" y="0"/>
            <a:ext cx="2579760" cy="28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 rot="17100000">
            <a:off x="-375120" y="1975320"/>
            <a:ext cx="506556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Rockwell"/>
              </a:rPr>
              <a:t>Cyberbullying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348000" y="836280"/>
            <a:ext cx="57960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ay “No” - Tell an </a:t>
            </a:r>
            <a:r>
              <a:rPr b="0" lang="en-US" sz="3600" spc="-1" strike="noStrike">
                <a:solidFill>
                  <a:srgbClr val="00b050"/>
                </a:solidFill>
                <a:latin typeface="Rockwell"/>
              </a:rPr>
              <a:t>Adul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Rockwell"/>
              </a:rPr>
              <a:t>Mom or Dad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Rockwell"/>
              </a:rPr>
              <a:t>Teacher or Principa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00b05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Rockwell"/>
              </a:rPr>
              <a:t>Older Brother or Sister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c000"/>
              </a:buClr>
              <a:buSzPct val="1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Rockwell"/>
              </a:rPr>
              <a:t>Save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/Print the comment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c000"/>
              </a:buClr>
              <a:buSzPct val="1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Rockwell"/>
              </a:rPr>
              <a:t>Solve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the problem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Keep you </a:t>
            </a:r>
            <a:r>
              <a:rPr b="0" lang="en-US" sz="2800" spc="-1" strike="noStrike">
                <a:solidFill>
                  <a:srgbClr val="ffc000"/>
                </a:solidFill>
                <a:latin typeface="Rockwell"/>
              </a:rPr>
              <a:t>Saf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c000"/>
              </a:buClr>
              <a:buSzPct val="1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603" name="Picture 5" descr="C:\Users\dsands\AppData\Local\Microsoft\Windows\Temporary Internet Files\Content.IE5\X6DQBF1B\MC900233313[1].wmf"/>
          <p:cNvPicPr/>
          <p:nvPr/>
        </p:nvPicPr>
        <p:blipFill>
          <a:blip r:embed="rId1"/>
          <a:stretch/>
        </p:blipFill>
        <p:spPr>
          <a:xfrm>
            <a:off x="468360" y="4119480"/>
            <a:ext cx="267660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What makes a good </a:t>
            </a:r>
            <a:r>
              <a:rPr b="0" lang="en-US" sz="4000" spc="-1" strike="noStrike">
                <a:solidFill>
                  <a:srgbClr val="ffc000"/>
                </a:solidFill>
                <a:latin typeface="Rockwell"/>
              </a:rPr>
              <a:t>Online Citizen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642920" y="0"/>
            <a:ext cx="4286520" cy="378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Be </a:t>
            </a:r>
            <a:r>
              <a:rPr b="0" lang="en-US" sz="2800" spc="-1" strike="noStrike">
                <a:solidFill>
                  <a:srgbClr val="ffc000"/>
                </a:solidFill>
                <a:latin typeface="Rockwell"/>
              </a:rPr>
              <a:t>nice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o others - as you would in person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Use proper </a:t>
            </a:r>
            <a:r>
              <a:rPr b="0" lang="en-US" sz="2800" spc="-1" strike="noStrike">
                <a:solidFill>
                  <a:srgbClr val="ffc000"/>
                </a:solidFill>
                <a:latin typeface="Rockwell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Be </a:t>
            </a:r>
            <a:r>
              <a:rPr b="0" lang="en-US" sz="2800" spc="-1" strike="noStrike">
                <a:solidFill>
                  <a:srgbClr val="ffc000"/>
                </a:solidFill>
                <a:latin typeface="Rockwell"/>
              </a:rPr>
              <a:t>patient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and forgiving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606" name="Picture 4" descr="C:\Users\dsands\AppData\Local\Microsoft\Windows\Temporary Internet Files\Content.IE5\RM9NPZQS\MC900435731[1].wmf"/>
          <p:cNvPicPr/>
          <p:nvPr/>
        </p:nvPicPr>
        <p:blipFill>
          <a:blip r:embed="rId1"/>
          <a:stretch/>
        </p:blipFill>
        <p:spPr>
          <a:xfrm>
            <a:off x="4788000" y="3500280"/>
            <a:ext cx="3168720" cy="29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How Many of you…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708360" y="333000"/>
            <a:ext cx="5191200" cy="506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ave an </a:t>
            </a: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iPad or iPod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lay </a:t>
            </a: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video games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alk on </a:t>
            </a: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Skype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ave a </a:t>
            </a: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password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ave come across something </a:t>
            </a:r>
            <a:r>
              <a:rPr b="0" lang="en-US" sz="3200" spc="-1" strike="noStrike">
                <a:solidFill>
                  <a:srgbClr val="ff0000"/>
                </a:solidFill>
                <a:latin typeface="Rockwell"/>
              </a:rPr>
              <a:t>“bad” online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2" name="Picture 4" descr="C:\Users\dsands\AppData\Local\Microsoft\Windows\Temporary Internet Files\Content.IE5\X6DQBF1B\MC900060332[1].wmf"/>
          <p:cNvPicPr/>
          <p:nvPr/>
        </p:nvPicPr>
        <p:blipFill>
          <a:blip r:embed="rId1"/>
          <a:stretch/>
        </p:blipFill>
        <p:spPr>
          <a:xfrm>
            <a:off x="1092240" y="4160880"/>
            <a:ext cx="45594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at is this all about?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877840" y="2480760"/>
            <a:ext cx="4802040" cy="424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c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Rockwell"/>
              </a:rPr>
              <a:t>our use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omputers, video games, and iPads/iPods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ockwell"/>
              </a:rPr>
              <a:t>Cyberbullying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ncourage </a:t>
            </a:r>
            <a:r>
              <a:rPr b="0" lang="en-US" sz="2800" spc="-1" strike="noStrike">
                <a:solidFill>
                  <a:srgbClr val="00b050"/>
                </a:solidFill>
                <a:latin typeface="Rockwell"/>
              </a:rPr>
              <a:t>Social Responsibility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ith tech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5" name="Picture 6" descr="C:\Users\dsands\AppData\Local\Microsoft\Windows\Temporary Internet Files\Content.Outlook\JKNHDH7G\photo (11).JPG"/>
          <p:cNvPicPr/>
          <p:nvPr/>
        </p:nvPicPr>
        <p:blipFill>
          <a:blip r:embed="rId1"/>
          <a:stretch/>
        </p:blipFill>
        <p:spPr>
          <a:xfrm>
            <a:off x="5435640" y="333360"/>
            <a:ext cx="3421080" cy="2554200"/>
          </a:xfrm>
          <a:prstGeom prst="rect">
            <a:avLst/>
          </a:prstGeom>
          <a:ln w="0">
            <a:noFill/>
          </a:ln>
        </p:spPr>
      </p:pic>
      <p:sp>
        <p:nvSpPr>
          <p:cNvPr id="566" name="TextBox 1"/>
          <p:cNvSpPr/>
          <p:nvPr/>
        </p:nvSpPr>
        <p:spPr>
          <a:xfrm>
            <a:off x="1619280" y="333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ter – The Eag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 rot="17100000">
            <a:off x="-1194480" y="3164400"/>
            <a:ext cx="591660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Where does it  happen? 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8" name="Picture 19" descr="imagesCAOEUU8Y.jpg"/>
          <p:cNvPicPr/>
          <p:nvPr/>
        </p:nvPicPr>
        <p:blipFill>
          <a:blip r:embed="rId1"/>
          <a:stretch/>
        </p:blipFill>
        <p:spPr>
          <a:xfrm>
            <a:off x="6948360" y="189000"/>
            <a:ext cx="2040120" cy="1224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6" descr="images3.jpg"/>
          <p:cNvPicPr/>
          <p:nvPr/>
        </p:nvPicPr>
        <p:blipFill>
          <a:blip r:embed="rId2"/>
          <a:stretch/>
        </p:blipFill>
        <p:spPr>
          <a:xfrm rot="871800">
            <a:off x="4041720" y="299880"/>
            <a:ext cx="1727280" cy="1001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7" descr="images.jpg"/>
          <p:cNvPicPr/>
          <p:nvPr/>
        </p:nvPicPr>
        <p:blipFill>
          <a:blip r:embed="rId3"/>
          <a:stretch/>
        </p:blipFill>
        <p:spPr>
          <a:xfrm rot="954000">
            <a:off x="2377800" y="5565600"/>
            <a:ext cx="2340000" cy="8827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8" descr="imagesCAKTRLBD.jpg"/>
          <p:cNvPicPr/>
          <p:nvPr/>
        </p:nvPicPr>
        <p:blipFill>
          <a:blip r:embed="rId4"/>
          <a:stretch/>
        </p:blipFill>
        <p:spPr>
          <a:xfrm>
            <a:off x="6269040" y="3654360"/>
            <a:ext cx="1698480" cy="15350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2" descr="imagesCAN03YNH.jpg"/>
          <p:cNvPicPr/>
          <p:nvPr/>
        </p:nvPicPr>
        <p:blipFill>
          <a:blip r:embed="rId5"/>
          <a:stretch/>
        </p:blipFill>
        <p:spPr>
          <a:xfrm>
            <a:off x="5559480" y="5611680"/>
            <a:ext cx="2004840" cy="1122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7" descr=""/>
          <p:cNvPicPr/>
          <p:nvPr/>
        </p:nvPicPr>
        <p:blipFill>
          <a:blip r:embed="rId6"/>
          <a:stretch/>
        </p:blipFill>
        <p:spPr>
          <a:xfrm>
            <a:off x="5276880" y="2604960"/>
            <a:ext cx="1195200" cy="12067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8" descr=""/>
          <p:cNvPicPr/>
          <p:nvPr/>
        </p:nvPicPr>
        <p:blipFill>
          <a:blip r:embed="rId7"/>
          <a:stretch/>
        </p:blipFill>
        <p:spPr>
          <a:xfrm rot="970800">
            <a:off x="3206520" y="3025800"/>
            <a:ext cx="1542960" cy="15429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0" descr=""/>
          <p:cNvPicPr/>
          <p:nvPr/>
        </p:nvPicPr>
        <p:blipFill>
          <a:blip r:embed="rId8"/>
          <a:stretch/>
        </p:blipFill>
        <p:spPr>
          <a:xfrm rot="19832400">
            <a:off x="479520" y="468000"/>
            <a:ext cx="1143000" cy="6667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1" descr=""/>
          <p:cNvPicPr/>
          <p:nvPr/>
        </p:nvPicPr>
        <p:blipFill>
          <a:blip r:embed="rId9"/>
          <a:stretch/>
        </p:blipFill>
        <p:spPr>
          <a:xfrm rot="1069800">
            <a:off x="253800" y="1890720"/>
            <a:ext cx="2120760" cy="8938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2" descr=""/>
          <p:cNvPicPr/>
          <p:nvPr/>
        </p:nvPicPr>
        <p:blipFill>
          <a:blip r:embed="rId10"/>
          <a:stretch/>
        </p:blipFill>
        <p:spPr>
          <a:xfrm>
            <a:off x="2057400" y="100080"/>
            <a:ext cx="1774800" cy="10350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23" descr=""/>
          <p:cNvPicPr/>
          <p:nvPr/>
        </p:nvPicPr>
        <p:blipFill>
          <a:blip r:embed="rId11"/>
          <a:stretch/>
        </p:blipFill>
        <p:spPr>
          <a:xfrm>
            <a:off x="3222720" y="1413000"/>
            <a:ext cx="1790640" cy="10443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4" descr=""/>
          <p:cNvPicPr/>
          <p:nvPr/>
        </p:nvPicPr>
        <p:blipFill>
          <a:blip r:embed="rId12"/>
          <a:stretch/>
        </p:blipFill>
        <p:spPr>
          <a:xfrm rot="1415400">
            <a:off x="6824160" y="2238480"/>
            <a:ext cx="1981440" cy="11556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25" descr=""/>
          <p:cNvPicPr/>
          <p:nvPr/>
        </p:nvPicPr>
        <p:blipFill>
          <a:blip r:embed="rId13"/>
          <a:stretch/>
        </p:blipFill>
        <p:spPr>
          <a:xfrm>
            <a:off x="6043680" y="1228680"/>
            <a:ext cx="1923840" cy="11224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6" descr=""/>
          <p:cNvPicPr/>
          <p:nvPr/>
        </p:nvPicPr>
        <p:blipFill>
          <a:blip r:embed="rId14"/>
          <a:stretch/>
        </p:blipFill>
        <p:spPr>
          <a:xfrm>
            <a:off x="7191360" y="4929120"/>
            <a:ext cx="1847880" cy="10778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7" descr=""/>
          <p:cNvPicPr/>
          <p:nvPr/>
        </p:nvPicPr>
        <p:blipFill>
          <a:blip r:embed="rId15"/>
          <a:stretch/>
        </p:blipFill>
        <p:spPr>
          <a:xfrm rot="18564000">
            <a:off x="371520" y="4106520"/>
            <a:ext cx="1616040" cy="9428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9" descr=""/>
          <p:cNvPicPr/>
          <p:nvPr/>
        </p:nvPicPr>
        <p:blipFill>
          <a:blip r:embed="rId16"/>
          <a:stretch/>
        </p:blipFill>
        <p:spPr>
          <a:xfrm>
            <a:off x="3205080" y="4456080"/>
            <a:ext cx="2838600" cy="8287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9" descr=""/>
          <p:cNvPicPr/>
          <p:nvPr/>
        </p:nvPicPr>
        <p:blipFill>
          <a:blip r:embed="rId17"/>
          <a:stretch/>
        </p:blipFill>
        <p:spPr>
          <a:xfrm>
            <a:off x="227160" y="2793960"/>
            <a:ext cx="1830240" cy="10256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20" descr=""/>
          <p:cNvPicPr/>
          <p:nvPr/>
        </p:nvPicPr>
        <p:blipFill>
          <a:blip r:embed="rId18"/>
          <a:stretch/>
        </p:blipFill>
        <p:spPr>
          <a:xfrm rot="20161200">
            <a:off x="3828600" y="2134800"/>
            <a:ext cx="1932120" cy="10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 rot="17072400">
            <a:off x="-1409040" y="2886480"/>
            <a:ext cx="601200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y do we use tech?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"/>
          <p:cNvSpPr txBox="1"/>
          <p:nvPr/>
        </p:nvSpPr>
        <p:spPr>
          <a:xfrm rot="996000">
            <a:off x="3735360" y="420480"/>
            <a:ext cx="2733840" cy="41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825"/>
              </a:spcBef>
              <a:spcAft>
                <a:spcPts val="601"/>
              </a:spcAft>
              <a:buClr>
                <a:srgbClr val="00b0f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b0f0"/>
                </a:solidFill>
                <a:latin typeface="Rockwell"/>
              </a:rPr>
              <a:t>Fun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825"/>
              </a:spcBef>
              <a:spcAft>
                <a:spcPts val="601"/>
              </a:spcAft>
              <a:buClr>
                <a:srgbClr val="00b0f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b0f0"/>
                </a:solidFill>
                <a:latin typeface="Rockwell"/>
              </a:rPr>
              <a:t>Adventure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825"/>
              </a:spcBef>
              <a:spcAft>
                <a:spcPts val="601"/>
              </a:spcAft>
              <a:buClr>
                <a:srgbClr val="00b0f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b0f0"/>
                </a:solidFill>
                <a:latin typeface="Rockwell"/>
              </a:rPr>
              <a:t>Creating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825"/>
              </a:spcBef>
              <a:spcAft>
                <a:spcPts val="601"/>
              </a:spcAft>
              <a:buClr>
                <a:srgbClr val="00b0f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b0f0"/>
                </a:solidFill>
                <a:latin typeface="Rockwell"/>
              </a:rPr>
              <a:t>Learning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825"/>
              </a:spcBef>
              <a:spcAft>
                <a:spcPts val="601"/>
              </a:spcAft>
              <a:buClr>
                <a:srgbClr val="00b0f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88" name="Picture 5" descr=""/>
          <p:cNvPicPr/>
          <p:nvPr/>
        </p:nvPicPr>
        <p:blipFill>
          <a:blip r:embed="rId1"/>
          <a:stretch/>
        </p:blipFill>
        <p:spPr>
          <a:xfrm>
            <a:off x="5940360" y="3616200"/>
            <a:ext cx="279900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 rot="17100000">
            <a:off x="-1474200" y="2459880"/>
            <a:ext cx="6478560" cy="16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at is </a:t>
            </a:r>
            <a:r>
              <a:rPr b="0" lang="en-US" sz="4400" spc="-1" strike="noStrike">
                <a:solidFill>
                  <a:srgbClr val="ff0000"/>
                </a:solidFill>
                <a:latin typeface="Rockwell"/>
              </a:rPr>
              <a:t>Cyber-bullying</a:t>
            </a: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067280" y="404280"/>
            <a:ext cx="46576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ockwell"/>
              </a:rPr>
              <a:t>Cyber-bullying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is using the Internet, cell phones, or other technology to send or post images or texts intended to hurt other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3924360" y="3701880"/>
            <a:ext cx="4594320" cy="29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1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"/>
          <p:cNvSpPr txBox="1"/>
          <p:nvPr/>
        </p:nvSpPr>
        <p:spPr>
          <a:xfrm rot="900000">
            <a:off x="3479400" y="960480"/>
            <a:ext cx="465768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730080" indent="-3650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Your best friend asks for your password to your family’s iPad (or to your favourite online site.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hat do you do?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94" name="Picture 5" descr="C:\Users\dsands\AppData\Local\Microsoft\Windows\Temporary Internet Files\Content.IE5\6QOL6NSR\MC900060335[1].wmf"/>
          <p:cNvPicPr/>
          <p:nvPr/>
        </p:nvPicPr>
        <p:blipFill>
          <a:blip r:embed="rId1"/>
          <a:stretch/>
        </p:blipFill>
        <p:spPr>
          <a:xfrm>
            <a:off x="0" y="4214880"/>
            <a:ext cx="457200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 rot="4500000">
            <a:off x="5171040" y="2230920"/>
            <a:ext cx="482112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2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11280" y="692280"/>
            <a:ext cx="72324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You are surfing the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nternet and something “bad” pops up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97" name="Picture 1" descr=""/>
          <p:cNvPicPr/>
          <p:nvPr/>
        </p:nvPicPr>
        <p:blipFill>
          <a:blip r:embed="rId1"/>
          <a:stretch/>
        </p:blipFill>
        <p:spPr>
          <a:xfrm>
            <a:off x="1692360" y="2419200"/>
            <a:ext cx="4174920" cy="41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 rot="17100000">
            <a:off x="-634320" y="2921760"/>
            <a:ext cx="5065920" cy="16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cenario 3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563640" y="620280"/>
            <a:ext cx="546084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You are playing an online game and someone asks to be your “friend” …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do you do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600" name="Picture 1" descr=""/>
          <p:cNvPicPr/>
          <p:nvPr/>
        </p:nvPicPr>
        <p:blipFill>
          <a:blip r:embed="rId1"/>
          <a:stretch/>
        </p:blipFill>
        <p:spPr>
          <a:xfrm>
            <a:off x="3500280" y="2997360"/>
            <a:ext cx="4857840" cy="363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Sands, Dave</cp:lastModifiedBy>
  <dcterms:modified xsi:type="dcterms:W3CDTF">2013-02-27T18:00:28Z</dcterms:modified>
  <cp:revision>75</cp:revision>
  <dc:subject/>
  <dc:title>Technology, kids and you</dc:title>
</cp:coreProperties>
</file>